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907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C80-48D7-4BAE-AFF7-02024B0F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7C6-9EA4-4865-AD80-7CAD05B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B6A-DFFB-47FC-976F-A427D437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8A84-17A2-45A0-82B3-1120644F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BFF-D0C8-4795-8C22-F561416B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0AE-94E4-4562-9BF8-889817AF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C35-4C2F-45D1-B606-1B72660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789-1DCA-4857-9164-07FAD6A7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A70-1905-415F-84AD-2E650A66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EF6-A096-48B9-8BBA-B39ABF8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C53-5486-41CC-812F-222D46E8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27F-691A-471D-90AA-BE9CBEBC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7BAA-C7A6-4287-A8B7-1696F16E94A1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128520" y="3933720"/>
            <a:ext cx="691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cc"/>
                </a:solidFill>
                <a:latin typeface="Lucida Brigh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992160" y="1989000"/>
            <a:ext cx="87850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993300"/>
                </a:solidFill>
                <a:latin typeface="Times New Roman"/>
              </a:rPr>
              <a:t>Regímenes de retención y percepció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993300"/>
                </a:solidFill>
                <a:latin typeface="Times New Roman"/>
              </a:rPr>
              <a:t>nacionales y provincia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993300"/>
                </a:solidFill>
                <a:latin typeface="Times New Roman"/>
              </a:rPr>
              <a:t>Dr. C.P. Marcelo Maroevich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1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48880" y="1628640"/>
            <a:ext cx="89982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omento en que corresponde efectuar l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Norma general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pago, distribución, liquidación o reintegro del importe sujeto a reten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Anticipos a cuenta de precio con carácter de principio de ejecución de contrato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c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da uno de los pagos y del saldo de la ope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1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08120" y="1557360"/>
            <a:ext cx="89978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Metodología de cálculo: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Calibri"/>
              </a:rPr>
              <a:t>Operaciones de compraventa de granos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7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Inscriptos en el IG y en el registro de operadores (o suspendidos): mínimo no imponible $ 12.000 y sobre el excedente 2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7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Inscriptos en el IG y no el registro de operadores: 1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7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No inscriptos en el IG 28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AR" sz="2200" spc="-1" strike="noStrike" u="sng">
                <a:solidFill>
                  <a:srgbClr val="000000"/>
                </a:solidFill>
                <a:uFillTx/>
                <a:latin typeface="Calibri"/>
              </a:rPr>
              <a:t>b) Comisiones u otras retribuciones de corredores, consignatarios, acopiadores-consignatarios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7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Inscriptos en el IG y en el registro de operadores (o suspendidos): mínimo no imponible $ 5.000 y sobre el excedente 2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c) Retención mínima $ 20 (comisiones) y $ 50 (venta de gran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1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49240" y="1557360"/>
            <a:ext cx="865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Metodología de cálculo (cont.):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Sólo se permite </a:t>
            </a: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detraer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 de la base sujeta a retención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portes prevision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impuestos internos y sobre los combusti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Operaciones de cambio o permuta: se efectuará la retención cuando el precio se integre parcialmente por la suma no retenida, por no disponer de suma para practicar la retención, deberá informar tal situación a la AF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7560" y="189000"/>
            <a:ext cx="8798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Resolución General (AFIP) 2408 – Percepción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48880" y="1557360"/>
            <a:ext cx="85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Ventas de cosas mueble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excluida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las de bienes de uso, granos destinados a la siembra, venta de agroquímicos y fertilizan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ocaciones y prestaciones de servic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excluidas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vinculadas al ag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4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07560" y="1752480"/>
            <a:ext cx="879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on sujetos pasibles de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s responsables inscriptos en IVA,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excep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Incluidos en regímenes de promoción con liberación o diferimiento del 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Agentes de percepción (RG 3337) y retención (RG18/9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ntidades financi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peraciones de venta de cereales y oleaginosas no destinadas a la siembra (RG 23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4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omento en el cual corresponde efectuar la percepción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 el caso de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ventas,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entrega del bien o la factura o documento equivalente, el que fuere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 el caso de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estación de servic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, finalización de la ejecución o prestación o con la percepción total o parcial del precio, el que fuere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40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07560" y="1752480"/>
            <a:ext cx="85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Metodología de cálculo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3%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 sobre el precio neto de la operación, cuando la misma esta sujeta a un IVA del 21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1,50%</a:t>
            </a: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 sobre el precio neto de la operación, cuando la misma esta sujeta a un IVA del 10,5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Percepción mínima $ 21,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Documentación a requerir del clien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Constancia de inscripción en el 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Publicación como agente de retención (de correspon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Publicación de exclusión total o parcial (de correspon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olución General 24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Conceptos sujetos a percep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Ventas de cosas mueble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, que participan del   canje o pago en especi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ocaciones y prestaciones de servic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, que participan del   canje o pago en especi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olución General 24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etodologia de cálc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% cuando el sujeto se encuentre incluido en el “Registro de Operadores en la Compra venta de Granos y legumbres Secas( Activos y suspendid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0.50% cuando el sujeto no se encuentre incluido en el Registro de operadores Agropecuari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olución General 24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existen sujetos excluidos de sufrir percepcion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percepción mínima es de  $ 5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7920" y="342720"/>
            <a:ext cx="8420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ímenes más import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7920" y="1714680"/>
            <a:ext cx="84204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spcAft>
                <a:spcPts val="3838"/>
              </a:spcAft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Impuesto a las Gananc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830 AFIP: régimen gene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2118 AFIP: granos no destinados a la siembra y legumbres se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739 AFIP y art. 91 a 93 de la LIG: beneficiarios del ex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Resolución General (AFIP) 2300 - Gran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43040" y="1557360"/>
            <a:ext cx="88185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anos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o destinados a siembra –cereales y oleaginosas y arro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egumbres seca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–porotos, arvejas y lentejas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pasibles de l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sponsables Inscriptos en el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excluidos de sufrir reten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s sujetos que cuenten con una exclusión pero sólo por parte de los </a:t>
            </a:r>
            <a:r>
              <a:rPr b="0" i="1" lang="es-AR" sz="2800" spc="-1" strike="noStrike">
                <a:solidFill>
                  <a:srgbClr val="000000"/>
                </a:solidFill>
                <a:latin typeface="Calibri"/>
              </a:rPr>
              <a:t>acopiadores,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AR" sz="2800" spc="-1" strike="noStrike">
                <a:solidFill>
                  <a:srgbClr val="000000"/>
                </a:solidFill>
                <a:latin typeface="Calibri"/>
              </a:rPr>
              <a:t>proveedores de insumos y/o bienes de capital y el mercado de cereales a término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 las operaciones de can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Monotribut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25120" y="1752120"/>
            <a:ext cx="8502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omento en que corresponde efectuar l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Pago total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al momento del pago sobre el importe de la ope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Pago parcial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sobre el total de la operación hasta el límite del 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anje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no hay retención y se debe informar en el aplicativo “Imposibilidad de retenció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42680" y="1557360"/>
            <a:ext cx="89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odología de cálc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a) </a:t>
            </a:r>
            <a:r>
              <a:rPr b="1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Granos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Calibri"/>
              </a:rPr>
              <a:t> no destinados a la siembra –cereales, oleaginosas y legumbres secas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8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o corredores incluidos en el registro fisc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10,50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o corredores NO incluidos en el registro fiscal de operadores o suspendid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) </a:t>
            </a: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Granos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 no destinados a la siembra –arroz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18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o corredores incluidos en el registro fisc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21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o corredores NO incluidos en el registro fiscal de operadores o suspend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07920" y="1752120"/>
            <a:ext cx="8420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atos a requerir del proveed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onstancia de Inscripción en 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ublicación de la inclusión en el régimen (de correspo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ublicación de la exclusión total o parcial (de correspo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Resolución General (AFIP)1428 - Le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43040" y="1557360"/>
            <a:ext cx="88185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eche fluida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sin procesar de ganado bov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pasibles de l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sponsables Inscriptos en el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o acrediten su situación frente al IVA (exento, monotributo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excluidos de sufrir reten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s sujetos que cuenten con una exclus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Monotribut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14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5120" y="1752120"/>
            <a:ext cx="8502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omento en que corresponde efectuar l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Pago total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al momento del pago sobre el importe de la ope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Pago parcial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sobre el total de la operación hasta el límite del 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anje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no hay retención y se debe informar en el aplicativo “Imposibilidad de retenció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14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42680" y="1557360"/>
            <a:ext cx="89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odología de cálc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6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inscriptos en el IVA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12,70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NO inscriptos en el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21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los contribuyentes con incumplimientos que surge de la consulta al “archivo de información de proveedores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atos a requerir del proveed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onstancia de Inscripción en I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ublicación de la exclusión total o parcial (de correspon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Resolución General (AFIP) 2394 - Algod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3040" y="1557360"/>
            <a:ext cx="88185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godón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 bru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Fibra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e algod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pasibles de l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sponsables Inscriptos en el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o acrediten su situación frente al IVA (exento, monotributo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excluidos de sufrir reten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Monotribut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39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5120" y="1752120"/>
            <a:ext cx="8502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omento en que corresponde efectuar l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Pago total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al momento del pago sobre el importe de la ope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Pago parcial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 sobre el total de la operación hasta el límite del 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Canje: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no hay retención y se debe informar en el aplicativo “Imposibilidad de retenció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39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42680" y="1557360"/>
            <a:ext cx="89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odología de cálc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7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inscriptos en el IVA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21%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para vendedores que no acrediten su situación frente al IVA y para los contribuyentes con incumplimientos que surge de la consulta al “archivo de información de proveedores”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atos a requerir del proveed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onstancia de Inscripción en 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ímenes más import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07920" y="1752120"/>
            <a:ext cx="8724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Aft>
                <a:spcPts val="2801"/>
              </a:spcAft>
              <a:tabLst>
                <a:tab algn="l" pos="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Calibri"/>
              </a:rPr>
              <a:t>Impuesto al Valor Agreg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18 AFIP: proveedores de empresas. export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2300 AFIP: granos no destinados a la siembra y legumbres se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2408 (ex 3337) AFIP –percepción-: proveedores de empresas. export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2126 AFIP –percepción-: operaciones  con sujetos no categoriz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1428 AFIP: leche fluida sin procesar de ganado bov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 - Perce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04520" y="1483920"/>
            <a:ext cx="9001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Operaciones de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ventas de cosas muebles y locaciones y prestaciones de servic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en la medida que estos ingresos sean atribuibles a la Provincia de Buenos 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pasibles de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dquirentes, locatarios y prestat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07920" y="1752480"/>
            <a:ext cx="865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Sujetos excluidos de sufrir percepción</a:t>
            </a:r>
            <a:r>
              <a:rPr b="1" lang="es-AR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Estado Nacional, Provincial y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ujetos exentos o no alcan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ujetos que desarrollen actividades integramente fuera de la jurisdi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os que cuenten con certificado de exclu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ntribuyentes de CM con coef. Unif.  inferior a 0,1000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os que desarrollen actividades exclusivamente agropecu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Operaciones realizadas con consumidores fi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4520" y="1557360"/>
            <a:ext cx="90010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no sujetos de sufrir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uando las cosas muebles, locaciones, prestaciones de servicios, tengan para el adquirente, locatario o prestatario el carácter de bienes de uso o representen insumos destinados a la fabricación o construcción de tal tipo de bie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eraciones realizadas por empresas de servicios públicos, las mismas estén destinadas a inmuebles situados fuera de la Provincia de Buenos Ai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eraciones realizadas por entidades financieras y emisoras de tarjetas de créditos y compra, éstas sean realizadas a través de sus casas matrices, sucursales, agencias, situadas fuera de Provincia de Buenos Aires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7920" y="1752480"/>
            <a:ext cx="84204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no sujetos de sufrir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eraciones realizadas por compañías de seguros, reaseguros y de capitalización y ahorro, las mismas tengan por objeto bienes situados o personas domiciliadas fuera de la jurisdicción de la Provincia de Buenos Ai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04880" y="1484280"/>
            <a:ext cx="899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Metodología de cálcu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Alícuota establecida por DGR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(entre 0% y 6%) aplicada sobre de la operación que surge de la factura, pudiéndose detraer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Percepciones efectuadas por otros regíme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Impuesto al valor agregado, internos y a los combusti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Devoluciones, bonificaciones y descu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Base imponible mínim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$ 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ocumentación a solicitar al clien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nstancia de inscripción en ingresos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Contribuyentes con coeficiente en Bs. As. &lt; 0,1000: CM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Resolución de reconocimiento de la exen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 - Re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48880" y="1557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ret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Operaciones de ventas de cosas mueble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(entregados en Bs As) y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locaciones y prestaciones de servicio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(efectuadas en Bs As) en la medida que estos ingresos sean atribuibles a esta Provinc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pasib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Enajenantes de cosas muebles, locador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de cosas, obras o servicios)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prestadores de servic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520" y="1483920"/>
            <a:ext cx="92012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excluidos de sufrir reten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dquisición de cosa muebl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uando la misma reviste el carácter de bien de uso para el vendedor (siempre que se trate de bienes usados y el vendedor no sea habitualis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mpresas prestadoras de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ervicios públ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mpresas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ncesionari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automoto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07920" y="1752120"/>
            <a:ext cx="84204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odología de Cálculo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ícuota establecida por DGR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(entre 0% y 3%) aplicada sobre de la operación que surge de la factura, pudiéndose detrae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Percepciones efectuadas por otros regíme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Impuesto al valor agregado, internos y a los combusti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Devoluciones, bonificaciones y descu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Base imponible mínima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$ 4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Documentación a requerir del proveedor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onstancia de Inscripción en Ingresos Bru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esolución que reconoce la ex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 – Retención (Agrop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76160" y="1483920"/>
            <a:ext cx="9056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ret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eraciones de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pras a productor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de semovientes, cereales, oleaginosas, hortalizas, verduras y frutas o productos de granja y de toda mercaderías o productos agropecuarios, ictícolas y apícolas 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pasib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ductor agropecu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excluidos de sufrir reten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Sujetos exentos y no alcan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Los que cuenten con certificado de exclus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Venta a consumidor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D. N. “B” 1/04 (Provincia de Buenos Air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Metodología de Cálcu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Mercaderías, frutos o productos producidos en la provincia y vendidos fuera de su jurisdicció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1% sobre 85% del precio de venta final ob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Mercaderías, frutos o productos provenientes de otra jurisdicción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1% sobre el 15% del precio de venta final obteni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Mercaderías, frutos o productos producidos en la provincia y vendidos en Buenos Aire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 1% sobre 100% del precio de venta final ob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ímenes más import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7920" y="1752120"/>
            <a:ext cx="8724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Aft>
                <a:spcPts val="2449"/>
              </a:spcAft>
              <a:tabLst>
                <a:tab algn="l" pos="0"/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Impuesto al Valor Agre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2394 AFIP: compraventa de algodón en bruto y fibra de algod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1575 AFIP: facturas “M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7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418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RG 2459 Percepciones IVA can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Re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gentes de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ienes compren por cuenta propia o de terceros productos agropecuarios a produc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Quienes intermedien en la compra de productos agropecuarios a produc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tidades asegurador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tidades financier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scriban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empresas y personas, por pagos a empresas de transpor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Re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gentes de Retención (cont.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empresas, por los pagos de comisiones a intermediar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empresas, por pagos de fletes que se originen en Santa 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as personas y empresas en general, aún cuando se hallen exentas, que tengan fijado domicilio o cuenten con local habilitado en la provincia y desde esta realicen operaciones gravadas, excepto cuando sus ingresos no superen los $ 4.000.000 en el año inmediato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Re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No deberá actuarse como agente de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or pagos a beneficiarios de regímenes espe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or pagos a sujetos exentos (si la exención fuese parcial, la retención se practica sobre el % grava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or pagos a personas con domicilio fuera de la provincia y que no sean contribuyentes del impuesto en Santa 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gos a EPE, entidades financieras y de segur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Re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ícuotas aplicab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ujetos locales: alícuota que corresponde a la operación que se paga, neto de importes que no integran la base imponible de IIB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ujetos de Convenio: el agente de retención puede optar por aplicar el 0,7% sobre el total del pago, o si se tratara de operaciones del Régimen General del Convenio, la alícuota vigente sobre el 50% del pa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Re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ícuotas aplicables (cont.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Sujetos de Convenio de regímenes especiales: la retención se materializarán sobre los porcentajes fijados para estos cas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Cuando el sujeto pasible no informe al agente actividad y alícuota correspondiente, este podrá aplicar por cada pago la alícuota del 3,5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En todos los casos en que se pague a un no inscripto que deba estarlo, se deberá aplicar la alícuota vigente incrementada en un 50%, sobre el total del pa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Reten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asos Especi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gos a acopiadores: la base se reduce al 5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Pagos a acopiadores-consignatarios: la base se reduce al 5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tribuyentes Exen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Deberán entregar al agente de retención una constancia extendida por el API o una nota en carácter de declaración jurada en la que manifieste su condi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Perce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Operaciones de ventas de cosas mue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Los servicios se encuentran no alcanz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Perce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ujetos pasibles de percep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dquirentes, locatarios y prestatarios inscriptos en IVA, exentos y monotributistas (los No Categorizados no están incluido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Tengan fijado domicilio o habilitado local en Santa Fe, o la mercadería sea entregada o remitida en la provincia, o se encuentren inscriptos en IIBB (los de Convenio con coeficiente superior a 0,10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Perce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Importe mínimo sobre el cual se deben practicar percepci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o corresponderá aplicar la percepción cuando el monto de la operación sea inferior al monto de $1.000. Si la suma de varias operaciones de un mismo día con un mismo sujeto, en conjunto, superan dicho monto, se deberá percibir sobre el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0520" y="333000"/>
            <a:ext cx="84200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Perce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07920" y="154620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Base Imponibl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8252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La base imponible esta constituida por el monto neto de la Fact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alibri"/>
              </a:rPr>
              <a:t>Alícuotas de percepció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8252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2,5% para quien sea contribuyente en la provinc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8252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3,5% para quien no acredite inscripción en IIBB en Santa F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8252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1% para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quienes realicen de manera conjunta actividades agropecuarias exentas y gravadas en IIBB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182520">
              <a:lnSpc>
                <a:spcPct val="90000"/>
              </a:lnSpc>
              <a:spcBef>
                <a:spcPts val="55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La base se reduce en un 50 % si se actúa con un contribuyente de Convenio que se encuentre inscripto en IVA. Para los regímenes especiales de Convenio se aplican los respectivos porcentaj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ímenes más import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7560" y="1752480"/>
            <a:ext cx="879804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700"/>
              </a:spcBef>
              <a:spcAft>
                <a:spcPts val="33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Impuesto sobre los Ingresos Br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Aft>
                <a:spcPts val="3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apital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326"/>
              </a:spcBef>
              <a:spcAft>
                <a:spcPts val="326"/>
              </a:spcAft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RG 533/00 DGR: régimen general de reten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Aft>
                <a:spcPts val="3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ovincia de Buenos 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DN “B” 1/2004 DGR: régimen general de retención y percep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DN “B” 1/2004 DGR: régimen de retención de productores agropecu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Aft>
                <a:spcPts val="3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ovincia de Santa 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43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Resolución general 15/97 API: régimen general de reten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.G. 15/97 (Pcia. de Santa Fe)</a:t>
            </a: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Régimen de Percep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Algunas particular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Al igual que el régimen de percepción de Buenos Aires, no se admiten las percepciones negativas, a menos que se trate de la anulación de la operación princip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No corresponde percibir a agentes de percep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ímenes más import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07560" y="1752480"/>
            <a:ext cx="899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spcAft>
                <a:spcPts val="33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Calibri"/>
              </a:rPr>
              <a:t>Impuesto sobre los Ingresos Bru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Aft>
                <a:spcPts val="3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ovincia de Córd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Decreto 443/04 PE y Resolución normativa 1/04 DGR: régimen general de reten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Aft>
                <a:spcPts val="3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ovincia de Cha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Resolución general 1214/94 DGR: régimen general de reten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Aft>
                <a:spcPts val="3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ovincia de S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Resolución general 8/03 DGR: régimen general de reten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Aft>
                <a:spcPts val="349"/>
              </a:spcAft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Provincia de Tucum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0000"/>
                </a:solidFill>
                <a:latin typeface="Calibri"/>
              </a:rPr>
              <a:t>Resolución general 23/02 DGR: régimen general de reten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gímenes de retención y percepción en partic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898989"/>
                </a:solidFill>
                <a:latin typeface="Calibri"/>
              </a:rPr>
              <a:t>Análisis de cada régi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Calibri"/>
              </a:rPr>
              <a:t>Resolución General (AFIP) 2118 - Gran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07560" y="1752480"/>
            <a:ext cx="879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nceptos sujetos a reten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Venta de </a:t>
            </a: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granos no destinados a la siembra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–cereales y oleaginosas y legumbres secas –porotos, arvejas y lentejas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Comisiones u otras retribuciones</a:t>
            </a:r>
            <a:r>
              <a:rPr b="0" lang="es-AR" sz="2800" spc="-1" strike="noStrike">
                <a:solidFill>
                  <a:srgbClr val="000000"/>
                </a:solidFill>
                <a:latin typeface="Calibri"/>
              </a:rPr>
              <a:t> derivadas de la actividad de corredores, consignatarios, acopiadores-consignatarios y demás intermedi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Calibri"/>
              </a:rPr>
              <a:t>Resolución General 21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Sujetos pasibles de retención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mpresas y explotaciones uniperson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Sociedades comerc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Cada uno de los usuarios, de tratarse de operaciones realizada a través de mercados de futuros y opcio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Fideicomi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Establecimientos estables de sujetos del exteri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Personas físicas y sucesiones indivis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Integrantes de UTE, ACE, consorcios, otras asociacio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Pablo García Serrano</dc:creator>
  <dc:description/>
  <dc:language>en-US</dc:language>
  <cp:lastModifiedBy>mgonzalez</cp:lastModifiedBy>
  <cp:lastPrinted>2000-11-24T16:12:54Z</cp:lastPrinted>
  <dcterms:modified xsi:type="dcterms:W3CDTF">2012-06-11T18:11:32Z</dcterms:modified>
  <cp:revision>200</cp:revision>
  <dc:subject/>
  <dc:title>Training</dc:title>
</cp:coreProperties>
</file>